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6E46-8980-4E07-815F-2AD97871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DD84-1EC8-46D1-8624-FA5B9277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FAA8-D498-46A4-9A6F-B509D9F0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C468-966F-45B3-871B-87722B23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1A29-919A-44C0-8F78-2C131FA7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5DF8-FA31-4F84-BE04-6D045467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E015-6DEB-4627-9EE4-20780E60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338B-AB25-4366-AA7B-8D4A5204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8CEA-6F36-4588-89BC-E099F321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F465-69D0-4B0D-81AD-1F1FCC6E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22D9-FCF8-433E-A371-AE9DC845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6314-1B9A-44E9-82E3-0A64AF3A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69D4-BC14-4D44-BA76-C40517E3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2076-B49C-403C-936D-42A15050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C327-3572-4C86-8544-7B5B0CDA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8E59-2545-4D43-B727-B45194A2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BDFB-F593-4FDC-92FE-A87B29E3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6450-9498-4A19-81E3-9FF338F5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8210-F757-439E-A5E2-B62E2C98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3D20-EB7D-401C-9DED-FA1DED88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293E-9290-40ED-985D-2FEB3287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F164-100A-46CB-831B-5AE61838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3B8E-59F7-41F2-BE8D-82EDBF20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88AB-CE1C-449B-A83E-1E8B022E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A1E5-4E42-456C-BB9F-D688F9F8C04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C9E8-0C41-49A5-923A-3A895AFB41D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Jephthah vs.</a:t>
            </a:r>
            <a:br>
              <a:rPr sz="6000"/>
            </a:b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The Ammonites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udges 10:6 - 11: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ages 82 - 8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581280"/>
            <a:ext cx="7162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go and possess the land your god, Chemosh, gave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whomsoever the Lord our God shall drive out from before us, them will we possess.”   v2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 has possessed this land for 300 years, why are you now trying to get the lan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will judge this day between Israel and Amm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monites did not accept his reasoning  v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vs. The Ammoni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12-2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’s spirit came upon Jephthah  v2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’s vow  v30-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 defeats the Ammonites v32-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much given about the battle but it was a great slaughter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– The Vow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29-3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srael Worships False Gods Agai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0:6-9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ed Baalim, Ashtaroth, gods of Syria, gods of Zidon, gods of Moab, gods of Ammon, gods of Philistines  v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erve the one true God  v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ing angry, God gave them over to the Philistines and the Ammonites  v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pressed 18 years  v7-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focus now is on the Ammon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srael “Cried Unto The Lord”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0:10-1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lly, the gods (idols) were put away, they confessed their sins, and asked for deliverance  v10-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hears their cry  v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monites gathered against Israel at Gilead  v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s in Israel asked: Who will fight against the Ammonites?  v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– The Ma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1-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ighty man of valor (brave, courageo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Gileadite, son of Gilead and a harl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iven from home by the legitimate s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nt to land of Tob (East of Sea of Galile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 of freebooters (pirat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me a bold and successful captain for the people of Gilead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bout Gilead..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ocky, mountainous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t of Jord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th of Bas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st of the Arabian platea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 of Moab and Am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vation: between 2,000 – 3,000 fe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ed for its balm (a fragrant and healing ointment) collected from “balm of Gilead” trees and was worth twice its weight in sil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rot="17908800">
            <a:off x="3563640" y="306612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 i l e a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44956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mon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486400" y="4419720"/>
            <a:ext cx="8380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209680"/>
            <a:ext cx="144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d of Gi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800600" y="2743200"/>
            <a:ext cx="1447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60948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d of T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19360" y="1143000"/>
            <a:ext cx="198108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– The Deliverer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4-11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 brought back to Gilead  v4-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lders of Gilead made a deal with Jephthah  v6-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, it was conditional  v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eople made him head and captain over them  v10-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vs. The Ammoni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12-2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05740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752480"/>
            <a:ext cx="88390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’s negotiations with the Ammonites  v12-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message to the king of Amm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do you want to fight against the Israelit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g’s rep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 took the land from us when they came out of Egypt!  Restore the land peaceab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 made another appeal  v14-2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 never took any land from Am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om, Moab and Amorites refused passage to Israel, but the Amorites (Sihon their king) started a f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had delivered the land of the Amorites into the hand of Isra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phthah cites historical precedents against them invading under these condi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vs. The Ammoni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12-2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3:44:51Z</dcterms:created>
  <dc:creator>Frank D Vines</dc:creator>
  <dc:description/>
  <dc:language>en-US</dc:language>
  <cp:lastModifiedBy>Terry Benton</cp:lastModifiedBy>
  <dcterms:modified xsi:type="dcterms:W3CDTF">2005-02-15T17:06:48Z</dcterms:modified>
  <cp:revision>21</cp:revision>
  <dc:subject/>
  <dc:title>Slide 1</dc:title>
</cp:coreProperties>
</file>